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A133-F617-4CF1-BD7D-363DF4DFA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5937-054A-4BCF-8F87-C731A573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402F-B9B2-4C7B-A431-1BE9274C7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D271-64AD-4159-A755-AA5BFD6C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678E-5B6C-419E-BB8B-6BC89777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D034-992D-4B9F-98B9-F412BC48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6EF2-9B6B-40DB-BB9B-3047DCD5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FAE3-A09F-4A73-B972-E81E1A47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6C1E-2B31-4856-BFCF-220934EB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F072-9521-4E1C-BDB6-708F3ED1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C678-7D45-4D33-B088-B9355337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08B2-8BEC-4476-879B-A2B99799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6845-CA1F-4CB2-A642-D65B183C20F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Grammar </a:t>
            </a:r>
            <a:fld id="{5E92E908-9C10-44F8-9B38-4FF1EB46DB3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: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76320" y="1138320"/>
            <a:ext cx="8991360" cy="50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uke 18.22: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ἀκουσα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δε ὁ Ἰησους εἰπεν αὐτῳ∙ Ἐπι ἑν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σοι λειπει∙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aving hea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Jesus said to him, 'One thing still remain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you …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hen Jesus hea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this) he said to him, 'You still lack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thing …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uke 7.9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: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ἀκουσας δε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ταυτα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ὁ Ἰησους ἐθαυμασεν αὐτο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he hear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ese thing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Jesus was amazed at hi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Grammar </a:t>
            </a:r>
            <a:fld id="{8CB673BA-F399-4F1C-B8F5-A96AE461CCF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-68400" y="271440"/>
            <a:ext cx="9283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000680" y="1143000"/>
          <a:ext cx="4786200" cy="2752560"/>
        </p:xfrm>
        <a:graphic>
          <a:graphicData uri="http://schemas.openxmlformats.org/drawingml/2006/table">
            <a:tbl>
              <a:tblPr/>
              <a:tblGrid>
                <a:gridCol w="714240"/>
                <a:gridCol w="714240"/>
                <a:gridCol w="1143000"/>
                <a:gridCol w="1143000"/>
                <a:gridCol w="1071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ον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οντ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οντ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ουσ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ουσα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ουση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ουσ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οντ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οντ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οντε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οντ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οντ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ουσι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ουσα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ουσ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ουσ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ουσα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ον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ον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οντ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ουσι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Box 11"/>
          <p:cNvSpPr/>
          <p:nvPr/>
        </p:nvSpPr>
        <p:spPr>
          <a:xfrm>
            <a:off x="330120" y="190188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Gentium"/>
              </a:rPr>
              <a:t>λυ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1928880" y="1500120"/>
            <a:ext cx="1285920" cy="703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s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λυω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3"/>
          <p:cNvSpPr/>
          <p:nvPr/>
        </p:nvSpPr>
        <p:spPr>
          <a:xfrm>
            <a:off x="928800" y="2786040"/>
            <a:ext cx="1285920" cy="703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i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λυσα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Straight Arrow Connector 15"/>
          <p:cNvCxnSpPr/>
          <p:nvPr/>
        </p:nvCxnSpPr>
        <p:spPr>
          <a:xfrm flipV="1">
            <a:off x="999720" y="1785240"/>
            <a:ext cx="857880" cy="214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Straight Arrow Connector 17"/>
          <p:cNvCxnSpPr/>
          <p:nvPr/>
        </p:nvCxnSpPr>
        <p:spPr>
          <a:xfrm>
            <a:off x="999720" y="2356920"/>
            <a:ext cx="429480" cy="358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Straight Arrow Connector 19"/>
          <p:cNvCxnSpPr/>
          <p:nvPr/>
        </p:nvCxnSpPr>
        <p:spPr>
          <a:xfrm>
            <a:off x="3286080" y="1714680"/>
            <a:ext cx="643320" cy="18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4" name="Straight Arrow Connector 26"/>
          <p:cNvCxnSpPr/>
          <p:nvPr/>
        </p:nvCxnSpPr>
        <p:spPr>
          <a:xfrm>
            <a:off x="2000160" y="3571920"/>
            <a:ext cx="357840" cy="286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125" name=""/>
          <p:cNvGraphicFramePr/>
          <p:nvPr/>
        </p:nvGraphicFramePr>
        <p:xfrm>
          <a:off x="285840" y="3929040"/>
          <a:ext cx="5214960" cy="2752920"/>
        </p:xfrm>
        <a:graphic>
          <a:graphicData uri="http://schemas.openxmlformats.org/drawingml/2006/table">
            <a:tbl>
              <a:tblPr/>
              <a:tblGrid>
                <a:gridCol w="777960"/>
                <a:gridCol w="779400"/>
                <a:gridCol w="1322280"/>
                <a:gridCol w="1168560"/>
                <a:gridCol w="1166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αν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αντ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αντ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ασ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ασα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αση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ασ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α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α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αντ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αντ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αντε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αντ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αντ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ασι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ασα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ασ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ασ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ασα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αν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αν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αντ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ασι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Grammar </a:t>
            </a:r>
            <a:fld id="{AC70EA3E-F2FF-40B9-B1C9-59AA89B0E6E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649680" y="1143000"/>
          <a:ext cx="5351400" cy="2752560"/>
        </p:xfrm>
        <a:graphic>
          <a:graphicData uri="http://schemas.openxmlformats.org/drawingml/2006/table">
            <a:tbl>
              <a:tblPr/>
              <a:tblGrid>
                <a:gridCol w="765000"/>
                <a:gridCol w="763920"/>
                <a:gridCol w="1376280"/>
                <a:gridCol w="1231920"/>
                <a:gridCol w="1214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ομεν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ομεν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ομενο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ομεν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ομεν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ομενη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ομενη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ομεν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ομεν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ομεν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ομενο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ομεν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ομενο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ομενου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ομεν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ομενο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ομενα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ομεν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ομεν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ομενα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ομεν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ομεν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ομεν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ομενο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Box 4"/>
          <p:cNvSpPr/>
          <p:nvPr/>
        </p:nvSpPr>
        <p:spPr>
          <a:xfrm>
            <a:off x="71280" y="1860480"/>
            <a:ext cx="29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Gentium"/>
              </a:rPr>
              <a:t>ῥυομα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1571760" y="1500120"/>
            <a:ext cx="1319040" cy="703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s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ῥυομενο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571680" y="2786040"/>
            <a:ext cx="1612800" cy="703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i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ῥυσαμενο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Straight Arrow Connector 7"/>
          <p:cNvCxnSpPr/>
          <p:nvPr/>
        </p:nvCxnSpPr>
        <p:spPr>
          <a:xfrm flipV="1">
            <a:off x="642600" y="1785240"/>
            <a:ext cx="857880" cy="214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3" name="Straight Arrow Connector 8"/>
          <p:cNvCxnSpPr/>
          <p:nvPr/>
        </p:nvCxnSpPr>
        <p:spPr>
          <a:xfrm>
            <a:off x="642600" y="2356920"/>
            <a:ext cx="429480" cy="358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4" name="Straight Arrow Connector 9"/>
          <p:cNvCxnSpPr/>
          <p:nvPr/>
        </p:nvCxnSpPr>
        <p:spPr>
          <a:xfrm>
            <a:off x="2928960" y="1714680"/>
            <a:ext cx="660600" cy="25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5" name="Straight Arrow Connector 10"/>
          <p:cNvCxnSpPr/>
          <p:nvPr/>
        </p:nvCxnSpPr>
        <p:spPr>
          <a:xfrm>
            <a:off x="1643040" y="3571920"/>
            <a:ext cx="357840" cy="286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136" name=""/>
          <p:cNvGraphicFramePr/>
          <p:nvPr/>
        </p:nvGraphicFramePr>
        <p:xfrm>
          <a:off x="285840" y="3962520"/>
          <a:ext cx="5786280" cy="275256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1468440"/>
                <a:gridCol w="1312560"/>
                <a:gridCol w="1278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σαμεν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σαμεν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σαμενο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σαμεν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σαμεν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σαμενη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σαμενη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σαμεν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σαμεν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σαμεν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σαμενο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σαμεν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σαμενο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σαμενου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σαμεν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σαμενο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σαμενα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σαμεν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σαμεν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σαμενα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σαμεν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σαμεν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σαμεν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ῥυσαμενο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285840" y="1928880"/>
          <a:ext cx="8858160" cy="974520"/>
        </p:xfrm>
        <a:graphic>
          <a:graphicData uri="http://schemas.openxmlformats.org/drawingml/2006/table">
            <a:tbl>
              <a:tblPr/>
              <a:tblGrid>
                <a:gridCol w="3643200"/>
                <a:gridCol w="2786040"/>
                <a:gridCol w="242892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oden Translations: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Participle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tying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 Participle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ing untied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1014480" y="3786120"/>
          <a:ext cx="7138800" cy="1158840"/>
        </p:xfrm>
        <a:graphic>
          <a:graphicData uri="http://schemas.openxmlformats.org/drawingml/2006/table">
            <a:tbl>
              <a:tblPr/>
              <a:tblGrid>
                <a:gridCol w="3886200"/>
                <a:gridCol w="32526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Participl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taneous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 Participl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uenc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Grammar </a:t>
            </a:r>
            <a:fld id="{3465703B-2305-4684-ADC9-2F60BE1F0DF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MEAN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Grammar </a:t>
            </a:r>
            <a:fld id="{F583ED7C-01E9-4C04-97F7-3CA563000D0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MEAN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642960" y="1428840"/>
            <a:ext cx="7858080" cy="1595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i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uccessive Aorist participles are often best translated by a number of main verbs in English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428760" y="3500280"/>
            <a:ext cx="835812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Mark 5.27-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ἀκουσασα περι του Ἰησου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ἐλθουσα ἐν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τῳ ὀχλῳ ὀπισθεν ἡψατα του ἱματιου αὐτ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en she heard about Jesus, she came up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hind in the crowd and touched his cloak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Grammar </a:t>
            </a:r>
            <a:fld id="{CB588E9A-3891-42E5-9F52-AAE859C26F9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OTHER USES OF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133720" y="1163520"/>
            <a:ext cx="48765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.4.1 As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-642960" y="1609560"/>
            <a:ext cx="978696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hn 15.23: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ὁ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ἐμε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μισω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και τον πατερα μου μισ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e one who hates 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or whoever hates me), also hates my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hn 12.45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και ὁ θεωρων ἐμε θεωρει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τον πεμψαντα με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one who sees me is seeing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e one who sent 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s 10.44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ἐπεπεσεν το πνευμα το ἁγιον ἐπι παντας           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τους ἀκουοντας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τον λογο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holy spirit fell on all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ose who were listen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the wo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Grammar </a:t>
            </a:r>
            <a:fld id="{43D3A3B0-11EA-4212-B88E-4575C8F84E0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OTHER USES OF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00040" y="1109520"/>
            <a:ext cx="835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14.4.2 Casual, concessive and instrumental uses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44280" y="1785960"/>
            <a:ext cx="9144000" cy="46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usal: Matt. 1.19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Ἰωσηφ δε ὁ ἀνηρ αὐτης, δικαιος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ὠ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..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─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ut Joseph her husband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because he w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righteous ..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cessive: Rom. 1.21: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γνοντες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τον θεον οὐχ ὡς θεον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ἐδοξασα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─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lthough they kne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God, they did not glorify him as God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rumental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Tim. 4.16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τουτο γαρ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ποιω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και σεαυτον σωσεις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και τους ἀκουοντας σου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by do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his (lit: doing this) you will save both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ourself and your hear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Grammar </a:t>
            </a:r>
            <a:fld id="{C06600A9-C2AE-4B49-B0F9-EDCC4ADC439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OTHER USES OF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723960" y="1295280"/>
            <a:ext cx="7696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14.4.3 With Imperatives and Infinitives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42960" y="2357280"/>
            <a:ext cx="7696080" cy="27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rk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7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οὐκ εἰμι ἱκανος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κυφας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λυσαι τον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ἱμαντα των ὑποδηματων αὐτου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 am not worthy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o stoop dow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untie th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ap of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is sandals (lit: having stooped down, to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ntie)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Grammar </a:t>
            </a:r>
            <a:fld id="{5D4D9E14-5E75-4536-8D54-0E2AFEC6398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: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762120" y="2286000"/>
            <a:ext cx="7619760" cy="947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les must agree with the noun they qualify in gender, case and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762120" y="1600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 ad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762120" y="379404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762120" y="4521240"/>
            <a:ext cx="7619760" cy="947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les have a tense (Present or Aorist), and may have an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Grammar </a:t>
            </a:r>
            <a:fld id="{CF76D93A-10CA-4095-B1A5-97E3F0B0CB5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: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214200" y="1428840"/>
            <a:ext cx="8643960" cy="46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 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. 7.2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και εἰδον ἀλλον ἀγγελον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ἀναβαινοντα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ἀπο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ἀνατολης ἡλιου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ἐχοντα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σφραγιδα θεου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I saw another angel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scend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rom the rising of the su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hav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 seal from God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εἰδο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main verb, containing in it the subject – 'I saw'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ἀγγελο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object – an ang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ἀλλο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an adjective qualifying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ἀγγελον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entence is enriched by two participles describing the objec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ἀναβαινοντα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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ἐχον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Grammar </a:t>
            </a:r>
            <a:fld id="{84F5FD5E-33AA-4424-8A51-8BDB3A9F832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: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66760" y="1322280"/>
            <a:ext cx="8610480" cy="41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 1.16: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παραγω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παρα την θαλασσαν ... εἰδεν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Σιμωνα και Ἀνδρεαν ...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ἀμφιβαλλοντα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ἐν τῃ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θαλασσῃ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hile he was pass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longside the sea, he saw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on and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rew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cast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nets) in the se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εἰδεν Σιμωνα και Ἀνδρεαν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he saw Simon and Andr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παραγω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nominative sin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ἀμφιβαλλοντα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accusative pl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Grammar </a:t>
            </a:r>
            <a:fld id="{A9956408-87CB-402C-B7BD-A84CE470F9F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FORM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600200" y="1219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r basic particip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46160" y="1785960"/>
          <a:ext cx="8877240" cy="1874880"/>
        </p:xfrm>
        <a:graphic>
          <a:graphicData uri="http://schemas.openxmlformats.org/drawingml/2006/table">
            <a:tbl>
              <a:tblPr/>
              <a:tblGrid>
                <a:gridCol w="1425600"/>
                <a:gridCol w="1236600"/>
                <a:gridCol w="1820880"/>
                <a:gridCol w="385560"/>
                <a:gridCol w="1843200"/>
                <a:gridCol w="2165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-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tyin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ῥυ-ομε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scuing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-σ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aving unti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ῥυ-σαμε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aving rescued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57"/>
          <p:cNvSpPr/>
          <p:nvPr/>
        </p:nvSpPr>
        <p:spPr>
          <a:xfrm>
            <a:off x="500040" y="3732120"/>
            <a:ext cx="7848720" cy="25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Aorist there is no augment (there are never augments in the other mood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e Aorist there is a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an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oun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orist Participle uses the Present Participle endings (e.g.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βαλω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, as does the (Present) Participle of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εἰμ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ὠ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'being'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669960" y="1319040"/>
            <a:ext cx="7791480" cy="132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les ending in -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</a:rPr>
              <a:t>ο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ecline like 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</a:rPr>
              <a:t>ἀγαθ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les ending otherwise decline like 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</a:rPr>
              <a:t>πας</a:t>
            </a:r>
            <a:r>
              <a:rPr b="0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42920" y="2986200"/>
            <a:ext cx="8854920" cy="31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4.2.1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ῥυομενο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ῥυσαμενος</a:t>
            </a:r>
            <a:r>
              <a:rPr b="0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se decline exactly as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ἀγαθο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es. Thu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ῥυομενου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ccusative masculine plural of the Present Participle of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ῥυομα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ἀρξαμεναι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Dative feminine plural of the Aorist Participle of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ἀρχομα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ἐρχομενα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Nom./Acc. neuter plural of the Present Participle of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ἐρχομα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Grammar </a:t>
            </a:r>
            <a:fld id="{FA69BDF4-6CEC-4AB0-8D3F-A803416F8C4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Grammar </a:t>
            </a:r>
            <a:fld id="{DFFCDC61-C32E-435A-8275-A984A3F897E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527040" y="1557360"/>
            <a:ext cx="807228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14.2.2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λυων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Times New Roman"/>
              </a:rPr>
              <a:t>λυσα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follow the 3-1-3 pattern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πα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fore, to decline them, we need their three nominative singulars, and th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ste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λυων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nom. sing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λυω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λυουσα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λυο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. stem -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λυοντ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λυσας</a:t>
            </a:r>
            <a:r>
              <a:rPr b="0" lang="en-GB" sz="22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nom. sing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λυσα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λυσασα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λυσα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. stem -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λυσαντ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Grammar </a:t>
            </a:r>
            <a:fld id="{FE048018-08D2-470D-9099-CC6E74F849D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76040" y="1351080"/>
          <a:ext cx="8786880" cy="4694040"/>
        </p:xfrm>
        <a:graphic>
          <a:graphicData uri="http://schemas.openxmlformats.org/drawingml/2006/table">
            <a:tbl>
              <a:tblPr/>
              <a:tblGrid>
                <a:gridCol w="798840"/>
                <a:gridCol w="1303200"/>
                <a:gridCol w="1328760"/>
                <a:gridCol w="1201680"/>
                <a:gridCol w="1393920"/>
                <a:gridCol w="1366920"/>
                <a:gridCol w="1393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(Active) Participle -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ων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 (Active) Participle -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λυσας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u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in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u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in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υσ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σ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ν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υσα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ν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σα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ντο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υση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ντο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ντο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ση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ντο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ντ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υσ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ντ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ντ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σ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ντ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ντε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υσα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ν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ντε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σα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ν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ντ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υσ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ν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ντ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σ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ν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ντ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υσ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ντ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ντ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σ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ντ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υσι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υσαι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ουσι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σι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σαι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υσασι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:Grammar </a:t>
            </a:r>
            <a:fld id="{F19C813C-4C23-4A77-97AC-0F7603705EF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14200" y="1214280"/>
            <a:ext cx="9001080" cy="19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λυσαν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Nom./Acc. neuter singular of the Aorist Participle of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λυ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γραφοντι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Dative masc./neuter singular of the Present Participle of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γραφ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ἐλθοντε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Nom. masculine plural of the (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Aorist Participle of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ἐρχομα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οὐσιν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Dative masc./neut. plural of the Present Participle of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εἰμ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71440" y="3143160"/>
            <a:ext cx="8572680" cy="3108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re are two steps in forming a participle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iciple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basic forms (essentially a verbal matter – about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ense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icular instance of that form (essentially an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djectival matter – about gender, case and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number)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4:45:20Z</dcterms:created>
  <dc:creator>Sarah</dc:creator>
  <dc:description/>
  <dc:language>en-US</dc:language>
  <cp:lastModifiedBy>Sarah</cp:lastModifiedBy>
  <dcterms:modified xsi:type="dcterms:W3CDTF">2009-07-11T10:10:35Z</dcterms:modified>
  <cp:revision>73</cp:revision>
  <dc:subject/>
  <dc:title>Slide 1</dc:title>
</cp:coreProperties>
</file>